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BDE1-6FC7-4073-A11B-6AE6DA48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0BE5-6097-4A60-ABF9-3D0A20BA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B9AF-DB4A-47AA-8008-EFD34A05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BC4-B349-4CA7-9638-7E00DEFE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271-C683-45AF-BBD0-7EAA8278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C204-C8E4-47B5-B3BD-6429BB0F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65CB-A6FB-4DBD-8D53-B6DBD02B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5FFB-47C0-4856-8DEC-9A5830DF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2743-EF2F-4862-8B9F-62965888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2A3D-C636-4AC6-81E7-D7400F0E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210-9641-42DA-9F09-A86A0940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521-1B39-44A8-BCFF-76C85A77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0A76-75FC-45CD-9013-C302230C6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The Lord’s Pr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Father in heave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llowed be your na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kingdom co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will be do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earth as in heav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ive us today our daily br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give us our s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we forgive th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sin against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ave us from the time of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deliver us from ev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the kingdom, the pow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glory are y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1722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20:11Z</dcterms:created>
  <dc:creator>Anon Anon</dc:creator>
  <dc:description/>
  <dc:language>en-US</dc:language>
  <cp:lastModifiedBy>Anon Anon</cp:lastModifiedBy>
  <dcterms:modified xsi:type="dcterms:W3CDTF">2005-08-16T04:24:54Z</dcterms:modified>
  <cp:revision>12</cp:revision>
  <dc:subject/>
  <dc:title>Lord’s Prayer</dc:title>
</cp:coreProperties>
</file>